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817-9F23-4499-BA26-7E06AD5F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99E-DE0D-4408-87C5-C7212137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64E-5E2B-41E6-8079-04BBF4F6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D87-6BF8-4C22-A22E-5C1CB791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06A3-7A12-4B25-9A65-E8251EA1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BDD4-76FE-45DE-8DBD-7211CC94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329D-8B32-49C8-8E7A-77FF35F0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0EEE-A770-444A-85FA-D5A734ED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39E9-DD37-47D7-BCDE-8BCF6632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2E58-166F-4D02-8E52-76CD1A2D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54F4-D7AD-4538-AF2E-31B7F881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B82-DAFE-459D-884B-0BD472D9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F383-A95C-4A1E-862C-3474C80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11C6-5FC2-4514-87B9-78AA37E7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BD38-D5E2-407D-A7F2-80AE060D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138A-D234-423B-BC54-FC18EE52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0B73-30DD-47CB-ADC0-C3734AFB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096-E8CC-418B-8396-6189C520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A0E-5091-4201-9BD9-AC599C4D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5B6-D986-4630-8A80-4F0DFB0D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BA2-639E-4681-80E7-430FCD9C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5A0-CB68-4BFF-81B0-7AACFB29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C27-40E3-49BE-B1D0-552C496A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686-F3EC-4955-8053-3C73AEF9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31C1-CAF6-4BED-9C21-2C381C9E72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F699-AA34-45CF-AFB4-A6E005C1F3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1640" y="0"/>
            <a:ext cx="784836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washshah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¡Ay, quien me diera esa cierva que t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su mejilla una rosa entre sierp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unque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sus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ánguidos ojos me hiere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hallo consuelo en su talle gallar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y en su esbeltez, si me ayudan mis h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use, rendido, a sus pies mi mejill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ro crecióse en orgullo y mali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y dijo, al ver que mi llanto corr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«¿Dónde aprendiste ese amor extremado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Dije: · En tus ojos lección he tomado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908000" y="404640"/>
            <a:ext cx="57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58920" y="189000"/>
            <a:ext cx="6337440" cy="9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 replicó, y me dejó de una pieza «¿En acusar a mis ojos no cejas?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- le corté -, no por Dios, no te ofen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No he de mentar, si no quieres, mi agrav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Ya soy muslim convertido, y no ma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Tú, cuyos ojos al ciervo le afrenta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ú, que a la hurí con tu talle super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ú, cuya luz a las vistas anega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Credo secreto. es tu amor, y es, arc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he de tenerlo por siempre guardado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260280"/>
            <a:ext cx="9144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¡Oh tú más bello de todos los ser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 corazón va en pos tuyo, y no vuel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Óyele cuando de ausencia se due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GAR KOM LEBARE DAL-GAIBA NON TA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¡YA WELIYOS DE L ASIQA, SIN NON 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Í CÓMO SOPORTAR ESTA AUSENCIA. ¡NO TAN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¡AY DE LOS OJOS DE LA ENAMORADA, SI NO ESTÁS TÚ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01:47:02Z</dcterms:created>
  <dc:creator> </dc:creator>
  <dc:description/>
  <dc:language>en-US</dc:language>
  <cp:lastModifiedBy>-</cp:lastModifiedBy>
  <dcterms:modified xsi:type="dcterms:W3CDTF">2008-10-06T23:25:36Z</dcterms:modified>
  <cp:revision>5</cp:revision>
  <dc:subject/>
  <dc:title>Diapositiva 1</dc:title>
</cp:coreProperties>
</file>